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6858000" cy="9144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111400" y="767880"/>
            <a:ext cx="2876400" cy="3837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9000" rIns="9900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49E5B-2215-43EF-8A4F-7AA17EFB03FC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2111400" y="768240"/>
            <a:ext cx="2876400" cy="383724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71D49-1ACD-4B22-8DB3-38A07EAFF040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061CC-FD30-49E9-9B8F-E5308A367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D6C90-7421-40C5-83E1-581EEFF21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39B46-DB46-4087-8FC2-9405C702C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22A1B-CE2D-4444-B6D7-4AF0A9E59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6539C-6554-40C9-BEC0-939E60368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2697D-723F-4FC4-A60D-7A6114E8B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B14C5-1F11-4A00-9451-8517F3C5B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DF80F-4154-4C62-8260-178D16AC6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81338-7455-44EA-BB4B-CCDAEF390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CD3C5-BAA5-48CE-B9E3-1C502BA4D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B04D1-67D6-4038-B8C4-0A17BAE82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C8CE1-9A88-4C84-8F58-9AC53E58A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390C6-1917-4815-9807-B15B2B9118F9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2500200" y="674640"/>
            <a:ext cx="4071960" cy="1071720"/>
          </a:xfrm>
          <a:prstGeom prst="rect">
            <a:avLst/>
          </a:prstGeom>
          <a:solidFill>
            <a:srgbClr val="ccffcc"/>
          </a:solidFill>
          <a:ln w="255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122031"/>
                </a:solidFill>
                <a:latin typeface="PSLxKittithada"/>
                <a:cs typeface="PSLxKittithada"/>
              </a:rPr>
              <a:t>คำรับรองการปฏิบัติราชการ ประจำปีงบประมาณ ๒๕๕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4"/>
          <p:cNvSpPr/>
          <p:nvPr/>
        </p:nvSpPr>
        <p:spPr>
          <a:xfrm>
            <a:off x="0" y="8001000"/>
            <a:ext cx="6858000" cy="1214280"/>
          </a:xfrm>
          <a:prstGeom prst="rect">
            <a:avLst/>
          </a:prstGeom>
          <a:solidFill>
            <a:srgbClr val="92d050"/>
          </a:solidFill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122031"/>
                </a:solidFill>
                <a:latin typeface="PSLxKittithada"/>
                <a:cs typeface="PSLxKittithada"/>
              </a:rPr>
              <a:t>สำนักงานคณะกรรมการพัฒนาการเศรษฐกิจและสังคมแห่งชาต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22031"/>
                </a:solidFill>
                <a:latin typeface="PSLxKittithada"/>
                <a:ea typeface="PSLxKittithada"/>
              </a:rPr>
              <a:t>Office of the National Economic and Social Development Bo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3" descr="\\203.155.65.247\กลุ่มงาน\กลุ่มงานบริหารองค์กรและบุคลากร\photos\รูปอื่นๆ\ปก\DSC04984 new.JPG"/>
          <p:cNvPicPr/>
          <p:nvPr/>
        </p:nvPicPr>
        <p:blipFill>
          <a:blip r:embed="rId1"/>
          <a:stretch/>
        </p:blipFill>
        <p:spPr>
          <a:xfrm>
            <a:off x="133200" y="6191280"/>
            <a:ext cx="1724040" cy="13096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2" descr="E:\building sky 1.jpg"/>
          <p:cNvPicPr/>
          <p:nvPr/>
        </p:nvPicPr>
        <p:blipFill>
          <a:blip r:embed="rId2"/>
          <a:stretch/>
        </p:blipFill>
        <p:spPr>
          <a:xfrm>
            <a:off x="0" y="2184480"/>
            <a:ext cx="6858000" cy="35002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8" descr="C:\Documents and Settings\sutamma\Desktop\flood\New Folder\IMG_4429.jpg"/>
          <p:cNvPicPr/>
          <p:nvPr/>
        </p:nvPicPr>
        <p:blipFill>
          <a:blip r:embed="rId3"/>
          <a:stretch/>
        </p:blipFill>
        <p:spPr>
          <a:xfrm>
            <a:off x="3954600" y="6192720"/>
            <a:ext cx="1689120" cy="13035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9" descr="C:\Documents and Settings\prapanee\Local Settings\Temporary Internet Files\Content.Word\สศช.น้ำเงิน.PNG"/>
          <p:cNvPicPr/>
          <p:nvPr/>
        </p:nvPicPr>
        <p:blipFill>
          <a:blip r:embed="rId4"/>
          <a:stretch/>
        </p:blipFill>
        <p:spPr>
          <a:xfrm>
            <a:off x="357120" y="587520"/>
            <a:ext cx="1285920" cy="11430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0" descr="http://a7.sphotos.ak.fbcdn.net/hphotos-ak-snc6/196682_10150129025954470_734134469_6279945_3315748_n.jpg"/>
          <p:cNvPicPr/>
          <p:nvPr/>
        </p:nvPicPr>
        <p:blipFill>
          <a:blip r:embed="rId5"/>
          <a:stretch/>
        </p:blipFill>
        <p:spPr>
          <a:xfrm>
            <a:off x="2000160" y="6188040"/>
            <a:ext cx="1781280" cy="13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"/>
          <p:cNvSpPr/>
          <p:nvPr/>
        </p:nvSpPr>
        <p:spPr>
          <a:xfrm>
            <a:off x="0" y="7786800"/>
            <a:ext cx="6858000" cy="1357200"/>
          </a:xfrm>
          <a:prstGeom prst="rect">
            <a:avLst/>
          </a:prstGeom>
          <a:solidFill>
            <a:srgbClr val="92d050"/>
          </a:solidFill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3070d"/>
                </a:solidFill>
                <a:latin typeface="PSLxKittithada"/>
                <a:ea typeface="PSLxKittithada"/>
              </a:rPr>
              <a:t>962 </a:t>
            </a:r>
            <a:r>
              <a:rPr b="1" lang="th-TH" sz="2400" spc="-1" strike="noStrike">
                <a:solidFill>
                  <a:srgbClr val="03070d"/>
                </a:solidFill>
                <a:latin typeface="PSLxKittithada"/>
                <a:cs typeface="PSLxKittithada"/>
              </a:rPr>
              <a:t>ถนนกรุงเกษม แขวงโสมมนัส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3070d"/>
                </a:solidFill>
                <a:latin typeface="PSLxKittithada"/>
                <a:cs typeface="PSLxKittithada"/>
              </a:rPr>
              <a:t>เขตป้อมปราบศัตรูพ่าย กรุงเทพฯ </a:t>
            </a:r>
            <a:r>
              <a:rPr b="1" lang="th-TH" sz="2400" spc="-1" strike="noStrike">
                <a:solidFill>
                  <a:srgbClr val="03070d"/>
                </a:solidFill>
                <a:latin typeface="PSLxKittithada"/>
                <a:ea typeface="PSLxKittithada"/>
              </a:rPr>
              <a:t>10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070d"/>
                </a:solidFill>
                <a:latin typeface="PSLxKittithada"/>
                <a:ea typeface="PSLxKittithada"/>
              </a:rPr>
              <a:t>http://www.nesdb.go.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"/>
          <p:cNvSpPr/>
          <p:nvPr/>
        </p:nvSpPr>
        <p:spPr>
          <a:xfrm>
            <a:off x="0" y="6786720"/>
            <a:ext cx="6858000" cy="1000080"/>
          </a:xfrm>
          <a:prstGeom prst="rect">
            <a:avLst/>
          </a:prstGeom>
          <a:solidFill>
            <a:srgbClr val="ccffcc"/>
          </a:solidFill>
          <a:ln w="255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600" spc="-1" strike="noStrike">
                <a:solidFill>
                  <a:srgbClr val="03070d"/>
                </a:solidFill>
                <a:latin typeface="PSLxKittithada"/>
                <a:cs typeface="PSLxKittithada"/>
              </a:rPr>
              <a:t>สำนักงานคณะกรรมการพัฒนาการเศรษฐกิจและสังคมแห่งชาติ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4T02:49:32Z</dcterms:created>
  <dc:creator>prapanee</dc:creator>
  <dc:description/>
  <dc:language>en-US</dc:language>
  <cp:lastModifiedBy>prapanee</cp:lastModifiedBy>
  <dcterms:modified xsi:type="dcterms:W3CDTF">2011-05-09T07:19:20Z</dcterms:modified>
  <cp:revision>68</cp:revision>
  <dc:subject/>
  <dc:title>Slide 1</dc:title>
</cp:coreProperties>
</file>